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3688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73280"/>
            <a:ext cx="49402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5CB4-D12D-48F5-9A14-B7309415185B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A987-9668-4848-BEDA-847129263C6F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016A-F493-43F5-A0B8-906FAA8B29B3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F90C-95A6-4287-B784-3D0D81A4AEF3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12EE-09F3-49B7-A40C-312C9909DBFA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46E5-AC8C-499D-9975-08568AF9C894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CD14-BFA7-422F-80C0-28509FA0F4D8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3A8-ABC2-4E40-8747-62467A93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C25-4AFC-43CB-BEF4-D612B6A5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1CF-79B3-409A-B0EC-A3D412CF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D67-25C0-4A77-A86E-6479D318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7B26-F744-4390-BD21-B99E4B7C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41F0-561E-480F-87CB-A4B35830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C092-3357-406B-85F6-48607E70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28A6-7BE2-40C2-B60A-119A822A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4C64-DF28-4052-AB20-A83833E7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6EB3-D549-4D0C-9D05-BF10E7CB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6FD0-19C9-46E7-8C39-402FF369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0A7-C396-479A-B339-B5338D55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99D5-EBDF-4986-9546-17A9EBFD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E65E-C3D6-45DB-BF38-26F89DBA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94BB-104B-44A2-8407-0CC29F41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33A4-E833-4562-92AB-C47774F6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95DB-EF41-45B8-A113-788314F3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D9C72-3AE6-4C27-AF9E-BB36C0A3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8045-F460-41BB-BDDE-1565EAA7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AA5E-2DAF-4EC1-8619-6A26DF58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7CF2-F7D6-4596-AE4E-BFF11C13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90B1-2B50-4A13-A6F1-18619651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DB1-D2D3-4E3F-B38E-FCD302BF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2E3F-9A3B-46FC-98D1-E5A93CB9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7E35-DDFD-4A4F-9D6A-A4C2AB1E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4CD52-912B-40FF-82AD-4289332D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8BBD-0C3D-405F-B29B-D93BE238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5D85-8BF4-4F1E-B9DF-00F9E98B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D6189-7B16-4F1C-8C58-06611D47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A4CA5-0D6E-41A1-8EA1-A9AFD636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9AA-2AED-4C7E-BB94-BF40ED09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7E7-5130-4380-A925-AC2E82FD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BC7-7B08-487B-A600-D5FC2F17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D9A-9047-458B-81D0-622B6210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32E-0577-4834-A873-A9C0803B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08A-CE10-4AB3-90DE-5935F00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DBED-A473-4981-8492-DB7EC83714F3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4BB8-A0B0-4D41-B308-1D8A73ACD291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576360"/>
            <a:ext cx="623592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1930320" y="1523880"/>
            <a:ext cx="6540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C553-AE76-45EA-AC0D-74483B14923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F659-6A71-4F6D-9668-5E47D18328BF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ZoneTexte 6"/>
          <p:cNvSpPr/>
          <p:nvPr/>
        </p:nvSpPr>
        <p:spPr>
          <a:xfrm>
            <a:off x="647640" y="205740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napshot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od Security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 Cambodi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848040" y="5257800"/>
            <a:ext cx="4711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U Delegation to the Kingdom of Cambodi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5640" y="1603440"/>
            <a:ext cx="6811920" cy="4794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968480" y="5664240"/>
            <a:ext cx="6426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unding Support under Food Facility: € 17.9 M, 5 projec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unding Support under Food Security: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€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.1 M, 18 projec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pcoming funding under FS in urban areas: € 2 M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3.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241200" y="2451240"/>
            <a:ext cx="6642360" cy="4254480"/>
          </a:xfrm>
          <a:prstGeom prst="wedgeRectCallout">
            <a:avLst>
              <a:gd name="adj1" fmla="val 1458"/>
              <a:gd name="adj2" fmla="val -56902"/>
            </a:avLst>
          </a:prstGeom>
          <a:solidFill>
            <a:srgbClr val="5ca47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bf8fd"/>
                </a:solidFill>
                <a:latin typeface="Arial"/>
              </a:rPr>
              <a:t>To Donors: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ebf8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Don’t cut aid, but continue and with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tter target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ebf8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Don’t just focus on emergency funding (e.g. food aid)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ut also on agricultural sector, micro-credit schemes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, health, et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us a greater proportion of aid on core needs:</a:t>
            </a:r>
            <a:r>
              <a:rPr b="0" lang="en-US" sz="18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cial safety n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gage with government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that the funding from donors is used efficiently to directly meet the needs of the poor and encourage them to engage with civil socie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ork with civil society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 the necessary responses, government may lack the capacity to reach the poorest of the poo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934320" y="1549440"/>
            <a:ext cx="1962000" cy="130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6934320" y="2816280"/>
            <a:ext cx="1962000" cy="131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6934320" y="4111560"/>
            <a:ext cx="1962000" cy="131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"/>
          <p:cNvPicPr/>
          <p:nvPr/>
        </p:nvPicPr>
        <p:blipFill>
          <a:blip r:embed="rId4"/>
          <a:stretch/>
        </p:blipFill>
        <p:spPr>
          <a:xfrm>
            <a:off x="6934320" y="5407200"/>
            <a:ext cx="1981080" cy="1323720"/>
          </a:xfrm>
          <a:prstGeom prst="rect">
            <a:avLst/>
          </a:prstGeom>
          <a:ln w="0">
            <a:noFill/>
          </a:ln>
        </p:spPr>
      </p:pic>
      <p:sp>
        <p:nvSpPr>
          <p:cNvPr id="201" name="Oval 12"/>
          <p:cNvSpPr/>
          <p:nvPr/>
        </p:nvSpPr>
        <p:spPr>
          <a:xfrm>
            <a:off x="177840" y="1576440"/>
            <a:ext cx="6648480" cy="520200"/>
          </a:xfrm>
          <a:prstGeom prst="ellipse">
            <a:avLst/>
          </a:prstGeom>
          <a:solidFill>
            <a:srgbClr val="5ca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8fd"/>
                </a:solidFill>
                <a:latin typeface="Arial"/>
              </a:rPr>
              <a:t>4. Messages from the fie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41200" y="2413080"/>
            <a:ext cx="8293320" cy="4292640"/>
          </a:xfrm>
          <a:prstGeom prst="wedgeRectCallout">
            <a:avLst>
              <a:gd name="adj1" fmla="val -8787"/>
              <a:gd name="adj2" fmla="val -55953"/>
            </a:avLst>
          </a:prstGeom>
          <a:solidFill>
            <a:srgbClr val="5ca47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bf8fd"/>
                </a:solidFill>
                <a:latin typeface="Arial"/>
              </a:rPr>
              <a:t>To the government 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ct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timely and rightly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o crisis;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engage civil society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n discussing government responses 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cus on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stimulus packages that take account of the poor as the starting point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seed banks, direct cash transfers, rural small scale economic development activities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revent children from dropping out of schools (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don’t mortgage the futur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ncrease agricultural production and productivity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Land reform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Land title and property rights, Better land management and Redistribution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Infra-structure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Irrigation, water management, Rural roads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Facilitate loans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r agricultural development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Improvement of production technology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high purified and quality seeds; better fertilizer use – timing and amount; with the mobilizations of natural composting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177840" y="1576440"/>
            <a:ext cx="6648480" cy="520200"/>
          </a:xfrm>
          <a:prstGeom prst="ellipse">
            <a:avLst/>
          </a:prstGeom>
          <a:solidFill>
            <a:srgbClr val="5ca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8fd"/>
                </a:solidFill>
                <a:latin typeface="Arial"/>
              </a:rPr>
              <a:t>4. Messages from the fie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241200" y="2311560"/>
            <a:ext cx="8242560" cy="2806560"/>
          </a:xfrm>
          <a:prstGeom prst="wedgeRectCallout">
            <a:avLst>
              <a:gd name="adj1" fmla="val -8532"/>
              <a:gd name="adj2" fmla="val -55486"/>
            </a:avLst>
          </a:prstGeom>
          <a:solidFill>
            <a:srgbClr val="5ca47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Civil Societ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ell aware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 the crisis and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crease the awarenes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the lowest local planner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rease capacity for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sources mobilization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their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ffective u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volve local partners and institutions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hen defining and implementing response. Account for all groups affected by the crises, with special attention to women, children and minority group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crease beneficiaries participation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all project development cycle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ork closely with the local authoriti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other stakeholders to increase efficienc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owering and establishing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ocal development structur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ear exit strateg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77840" y="1576440"/>
            <a:ext cx="6648480" cy="520200"/>
          </a:xfrm>
          <a:prstGeom prst="ellipse">
            <a:avLst/>
          </a:prstGeom>
          <a:solidFill>
            <a:srgbClr val="5ca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8fd"/>
                </a:solidFill>
                <a:latin typeface="Arial"/>
              </a:rPr>
              <a:t>4. Messages from the fie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6" name="Picture 8" descr=""/>
          <p:cNvPicPr/>
          <p:nvPr/>
        </p:nvPicPr>
        <p:blipFill>
          <a:blip r:embed="rId1"/>
          <a:stretch/>
        </p:blipFill>
        <p:spPr>
          <a:xfrm>
            <a:off x="609480" y="51814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3276720" y="518148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"/>
          <p:cNvPicPr/>
          <p:nvPr/>
        </p:nvPicPr>
        <p:blipFill>
          <a:blip r:embed="rId3"/>
          <a:stretch/>
        </p:blipFill>
        <p:spPr>
          <a:xfrm>
            <a:off x="5943600" y="5181480"/>
            <a:ext cx="228600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8F1F-880F-413E-923A-CFD860AB218C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ZoneTexte 2"/>
          <p:cNvSpPr/>
          <p:nvPr/>
        </p:nvSpPr>
        <p:spPr>
          <a:xfrm>
            <a:off x="863640" y="1981080"/>
            <a:ext cx="7556400" cy="35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ambodia Contex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 Response :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1371600" indent="-457200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d Security &amp; Food Facility projects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lusion : Messages from the Field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pulation :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14 million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80 % lives in rural areas and 71 % depend primarily on agricultu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largely rice) and livestock for their livelihood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32 % of popul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below the poverty line and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90 % of the poor reside in rural area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verty in Cambodia is overwhelmingly rural, ranging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from 40-45 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the rural areas,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reaching 70-80 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some areas around the Tonle Basi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ral poverty and food insecurity are strongly interlinked : 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71 % of households expenditur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spent on food (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 the lowest income, more than 80%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st people depend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on their own capacity to produce food to meet their need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they grow crops including their staple food (rice) annual and perennial crops, raise livestock, and harvest wild foods from fisheries and forests for food and inco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oorest are particularly dependent on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access to common property resour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ex. eating and selling fish, eating mushrooms, firewood…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30120" y="1574280"/>
            <a:ext cx="8445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volatile food prices have negatively affected the poor households, as they can not easily shift non-food parts of their expenditures to food, </a:t>
            </a:r>
            <a:r>
              <a:rPr b="1" lang="en-GB" sz="1600" spc="-1" strike="noStrike" u="sng">
                <a:solidFill>
                  <a:srgbClr val="0000ff"/>
                </a:solidFill>
                <a:uFillTx/>
                <a:latin typeface="Arial"/>
              </a:rPr>
              <a:t>coping strateg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re :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spcBef>
                <a:spcPts val="1100"/>
              </a:spcBef>
              <a:buClr>
                <a:srgbClr val="0000ff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Reduce the quality of food : lower value, less nutritiou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creased consumption of nutrient-dense foods: animal source foods (meat, poultry, eggs, fish, milk), fruits and vegetables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spcBef>
                <a:spcPts val="1100"/>
              </a:spcBef>
              <a:buClr>
                <a:srgbClr val="0000ff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Reduce the quantity of food : reduction of food intak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duced expenditure on basic foods : sugar, oil, salt and staples such as wheat flour products, rice and tubers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spcBef>
                <a:spcPts val="1100"/>
              </a:spcBef>
              <a:buClr>
                <a:srgbClr val="0000ff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Apply other negative coping strategi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creased use of foods grown or collected (eg increasing pressure on fish stock)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ing fewer agricultural inputs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ing loans and face further indebtedness, 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stress sale of productive assets, 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ing children out of school (usually girls first) leading to increase of child labour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duced spending on health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ying to increase incomes – risks of unsafe behaviours (migration, sex industry …)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228600" y="3098880"/>
            <a:ext cx="6094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990720" y="2362320"/>
            <a:ext cx="0" cy="1600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DSC06911"/>
          <p:cNvPicPr/>
          <p:nvPr/>
        </p:nvPicPr>
        <p:blipFill>
          <a:blip r:embed="rId1"/>
          <a:stretch/>
        </p:blipFill>
        <p:spPr>
          <a:xfrm>
            <a:off x="6032520" y="3240000"/>
            <a:ext cx="2705040" cy="361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44600" y="2031840"/>
            <a:ext cx="55497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rition Status in Cambodia has deteriorat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(Anthropometric Survey - Nov 2008 )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ute malnutrition (wasting) of children under five :  rate of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8.9% in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mpared to 8.4% in 2005.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trend is even stronger for poor urban children &lt; 5 with a wasting rate of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5.9%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mpared to 9.6% in 2005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625400"/>
            <a:ext cx="80010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299"/>
              </a:lnSpc>
              <a:spcBef>
                <a:spcPts val="312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The consequences of reducing dietary quality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(micronutrient deficiencies) and quantity (reducing dietary energy) in terms of nutrition &amp; health …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are jeopardising the future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ften already prevalent in poor populations, especially stunting, and so increase of severity can happen very rapidly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Greatest negative impact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on growing infants and children and pregnant and lactating mother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which leads to irreparable damages and life time productivity losses, and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will further affect maternal death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(for which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progress has been made since 2000)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lowed cognitive development and growth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d thinness among adolescents and adults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d incidence and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severity of infectious disease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, and especially diarrhoea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d stunting has long-term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mpacts of impaired school performance, work productivity and future earning potential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8088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8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03040" y="1587600"/>
            <a:ext cx="86997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97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Agricultural growth is currently constrained by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water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: lack of irriga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land, forests and fisheri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: 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20% landless, 25% &lt; 0,5 ha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technolog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in production, transport, post-harvest storage, processing/small scale transformation, and marketing/sales of products 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(deficient distribution and infrastructure : roads, markets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395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i="1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103c72"/>
                </a:solidFill>
                <a:latin typeface="Arial"/>
              </a:rPr>
              <a:t>which also affects competitiveness in regards to neighbouring countri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capital for investmen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: loans and micro-credi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diversified income-generation activiti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, and limited long-term agribusiness investment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market information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(productivity and products prices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apacity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of farmer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akness of public servic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(on agriculture research, extension, market information and phytosanitary services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Furthermore, Cambodia faces immediate threats to its agricultural production and food security from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climate changes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 in rainfall, temperatures and availability of water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2. Challe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1"/>
          <a:srcRect l="14654" t="13786" r="16635" b="22353"/>
          <a:stretch/>
        </p:blipFill>
        <p:spPr>
          <a:xfrm>
            <a:off x="730080" y="1600200"/>
            <a:ext cx="66931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880" y="1663200"/>
            <a:ext cx="830592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ral and urban poor, landless or land poor farmers and female-headed households are the worst hit by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rnal and internal shock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ral poor are often forced onto marginal flood-prone land; areas subject to drought or not yet cleared of landmines and unexploded ordnance.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opulation is predominantly rural and expanding and financial crisis have seen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nt workers back to rural areas as factories are closing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ither urban development nor diversification of rural incomes will be sufficient to provide for or respond to the need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65160" indent="-50796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Land reform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in Cambodia is seen as key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65160" indent="-50796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Creating and safeguarding secure livelihoods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(social safety nets)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for the rural poor will therefore depend greatly on how key natural resources – forestry, fisheries and agricultural land – are manage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254160" y="5334120"/>
            <a:ext cx="8381880" cy="1295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Increased risk for </a:t>
            </a:r>
            <a:r>
              <a:rPr b="0" lang="fr-BE" sz="1600" spc="-1" strike="noStrike">
                <a:solidFill>
                  <a:srgbClr val="0000ff"/>
                </a:solidFill>
                <a:latin typeface="Arial"/>
              </a:rPr>
              <a:t>women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of gender disparities and of domestic violence and traffick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eed for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creation of employ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pportunities in rural area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eed to ensur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ealth c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ocial prot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all people, especially the poores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2. Challe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8T21:41:15Z</dcterms:modified>
  <cp:revision>875</cp:revision>
  <dc:subject/>
  <dc:title>No Slide Title</dc:title>
</cp:coreProperties>
</file>